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127B-4FD2-401C-9CD7-2391CD26576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3FF9-021E-4DC2-91F3-48032D36161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-419040" y="0"/>
            <a:ext cx="4103640" cy="30798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D87-6CB5-40B5-85CE-C29F04DC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A85F-E774-42D3-986B-3A8A84F1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DEE-49C8-439C-B0BB-55F4DF94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28A7-AFC9-4000-BE34-60F351D5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A333-A557-4475-AA66-FA39BC2B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4E5A-7742-44AB-B7C2-4EAB5B5D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28B2-A98E-4604-AA1C-53F83337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DE80-5432-48C1-A3DC-E27F8B61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0D1-E460-4F2A-AF6F-1C5981C6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AB9-7F8B-465D-8118-32C865D1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BB1-09C6-42DF-A8AB-630F732B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8A1-824C-4D58-9CD0-8DF30969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39C6-6070-4424-AC34-4C13DE2F6F35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str.lu.lv/EDF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F – Curr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08644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.Salm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Astronomy, University of Lat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tbourne, October 20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ttz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s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ic up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lementation Co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F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str.lu.lv/E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astr.lu.lv/ne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F ftp down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gate.astr.lu.lv, anonymous F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F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gate.astr.lu.lv, anonymous F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F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E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base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16120" y="806400"/>
            <a:ext cx="7464240" cy="5002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77800" y="6157800"/>
            <a:ext cx="618840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ardware configurations identif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07:56:22Z</dcterms:created>
  <dc:creator>K.Salminsh</dc:creator>
  <dc:description/>
  <dc:language>en-US</dc:language>
  <cp:lastModifiedBy>Kalvis Salminsh</cp:lastModifiedBy>
  <dcterms:modified xsi:type="dcterms:W3CDTF">2005-10-05T12:38:02Z</dcterms:modified>
  <cp:revision>21</cp:revision>
  <dc:subject/>
  <dc:title>Relational Database for SLR  Applications</dc:title>
</cp:coreProperties>
</file>